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7F7B-8631-4F72-83CA-8CF0FD54C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xt describes the characteristics of “typical” business guests and leisure gues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The text provides an example of each characteristic applied to lodging industr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6882-F81D-4202-9F10-2EA7EFEC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BF0-8E40-4A24-9248-7092ABBF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E9A-B8BC-4460-93D7-DB215693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278-5CEF-48AC-BB51-95E70E9B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36FE-D417-46A9-8A62-538C69CD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1509-8E2E-4285-85D3-01355959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5D83-9512-4C4F-9DE4-50ECC216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58CF-CCA2-464F-843A-3CCF631F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DB5F-7AC7-4976-906A-A53788BD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F36C-AD2A-40F3-941D-CFA54656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0FFF-BA8B-4768-89AB-3462E657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3DF-DC8F-43D9-8AF3-F516F138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2DB4-A14A-4D98-A14C-2DA60E0C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31DB-926E-4D22-8259-12C1760C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AC27-3C52-47B8-AB86-34AE783E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0E52-18C2-4BEB-9DE1-F262AA3C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472F-407B-4E8D-9B8A-2042A1FC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ABA-0458-42B0-8DE2-E9C7C59E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2CA-0E8B-4496-95B5-171544C5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062-E387-4F62-B2BC-77223640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CE4-2299-4894-B29F-CB10760C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23B-9686-4D5F-8F38-C4CF55C7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E70-2379-47B6-998A-BC79E5B0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163-A627-4ED5-AEDF-2CCF5594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DCC3-B4BE-4807-BFF6-767A54993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7967-71E6-4471-9396-83D6D2C13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goda.com/" TargetMode="External"/><Relationship Id="rId2" Type="http://schemas.openxmlformats.org/officeDocument/2006/relationships/hyperlink" Target="http://www.hyatt.com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RONT OFFICE HOTEL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42600" y="30715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The Hotel Guest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11" descr="j0330861[1]"/>
          <p:cNvPicPr/>
          <p:nvPr/>
        </p:nvPicPr>
        <p:blipFill>
          <a:blip r:embed="rId1">
            <a:grayscl/>
          </a:blip>
          <a:stretch/>
        </p:blipFill>
        <p:spPr>
          <a:xfrm>
            <a:off x="5292720" y="2994120"/>
            <a:ext cx="3103560" cy="30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oo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ividual booking cyc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time between when the individual reservation is made and when it is due to arriv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as the group base can be reserved far in advance, the individual booking cycle can be more short 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lk-in reserv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made by guests arriving unannounced at a hotel and cannot be measured as part of the booking cycle as they are hard to predi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v Transient Roo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group and transient makeup of a hotel depends on many factors including location type, service level, target market, size and other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ample relationship at a fictitious downtown hotel is as follow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955960" y="3683160"/>
            <a:ext cx="3200400" cy="2193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955960" y="5054760"/>
            <a:ext cx="457200" cy="82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413160" y="4689360"/>
            <a:ext cx="457200" cy="11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870360" y="4322880"/>
            <a:ext cx="457200" cy="1554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4327560" y="4505400"/>
            <a:ext cx="45720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784760" y="5146560"/>
            <a:ext cx="457200" cy="730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41960" y="5054760"/>
            <a:ext cx="457200" cy="82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5699160" y="5419800"/>
            <a:ext cx="457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411280" y="50878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2411280" y="46306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2411280" y="41734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411280" y="37162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2411280" y="55450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18"/>
          <p:cNvSpPr/>
          <p:nvPr/>
        </p:nvSpPr>
        <p:spPr>
          <a:xfrm rot="16200000">
            <a:off x="1224720" y="46274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umber of Hotel Sleeping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2544840" y="293976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21"/>
          <p:cNvSpPr/>
          <p:nvPr/>
        </p:nvSpPr>
        <p:spPr>
          <a:xfrm>
            <a:off x="2971800" y="58525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    T     W    T     F     S   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4859280" y="407664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3419640" y="5373720"/>
            <a:ext cx="1223640" cy="246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7740720" y="595008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3-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eservation Aven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hotel that wants to minimise the opportunity cost associated with transient sleeping room sales will incorporate as man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rvation avenu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ervation avenue is defined as the means by which a guest is able to make a reservation at a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eater the access guests have to specific hotels, the more likely they are to bo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ansient Reservation Avenues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most common reservation avenues ar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DS system (Global Distribution Syste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S (Central Reservation Syste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rect travel agent or travel management company conta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rect guest contra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DS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lobal Distribution System (GDS) is a network of travel and hospitality entities that communicate via an integrated computer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puter systems were developed by airlines to link their availability to travel ag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 fee agreements hotels and car rental companies now also link their individual products to the GDS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entral reservation systems provides the customer with an avenue to locate a hotel of choice in a certain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an easy to find toll free number such as 1800-hotels-1 or Web site such as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www.agoda.c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hyatt.c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CRS can generate demand for a hotel through pricing OR brand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avel Agent or Travel Management Compan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in the transient reservation process, travel agents and travel management companies act as intermediaries, making money in one of two w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They may charge a fl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ment f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They are paid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i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rect Guest Conta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uests themselves can make a reservation via phone, fax or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otels offer a direct booking capability on their webs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eservation Aven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31"/>
          <p:cNvSpPr/>
          <p:nvPr/>
        </p:nvSpPr>
        <p:spPr>
          <a:xfrm>
            <a:off x="3348000" y="211608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ient G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32"/>
          <p:cNvSpPr/>
          <p:nvPr/>
        </p:nvSpPr>
        <p:spPr>
          <a:xfrm>
            <a:off x="3348000" y="515772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755640" y="2836800"/>
            <a:ext cx="2376360" cy="580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vel Mgmt Co or Travel Ag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34"/>
          <p:cNvSpPr/>
          <p:nvPr/>
        </p:nvSpPr>
        <p:spPr>
          <a:xfrm>
            <a:off x="5940360" y="3629160"/>
            <a:ext cx="237672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755640" y="427680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36"/>
          <p:cNvSpPr/>
          <p:nvPr/>
        </p:nvSpPr>
        <p:spPr>
          <a:xfrm>
            <a:off x="5724360" y="2349360"/>
            <a:ext cx="1522440" cy="1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37"/>
          <p:cNvSpPr/>
          <p:nvPr/>
        </p:nvSpPr>
        <p:spPr>
          <a:xfrm flipH="1">
            <a:off x="7236000" y="2351160"/>
            <a:ext cx="10800" cy="12938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38"/>
          <p:cNvSpPr/>
          <p:nvPr/>
        </p:nvSpPr>
        <p:spPr>
          <a:xfrm>
            <a:off x="7236000" y="4005360"/>
            <a:ext cx="0" cy="1368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39"/>
          <p:cNvSpPr/>
          <p:nvPr/>
        </p:nvSpPr>
        <p:spPr>
          <a:xfrm flipH="1">
            <a:off x="5724360" y="5373720"/>
            <a:ext cx="15098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40"/>
          <p:cNvSpPr/>
          <p:nvPr/>
        </p:nvSpPr>
        <p:spPr>
          <a:xfrm>
            <a:off x="4427640" y="2492280"/>
            <a:ext cx="0" cy="2665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41"/>
          <p:cNvSpPr/>
          <p:nvPr/>
        </p:nvSpPr>
        <p:spPr>
          <a:xfrm>
            <a:off x="5075280" y="2492280"/>
            <a:ext cx="0" cy="2665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42"/>
          <p:cNvSpPr/>
          <p:nvPr/>
        </p:nvSpPr>
        <p:spPr>
          <a:xfrm>
            <a:off x="3132000" y="2924280"/>
            <a:ext cx="576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43"/>
          <p:cNvSpPr/>
          <p:nvPr/>
        </p:nvSpPr>
        <p:spPr>
          <a:xfrm flipH="1">
            <a:off x="3704760" y="2924280"/>
            <a:ext cx="3240" cy="2233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44"/>
          <p:cNvSpPr/>
          <p:nvPr/>
        </p:nvSpPr>
        <p:spPr>
          <a:xfrm flipH="1">
            <a:off x="1753920" y="2276640"/>
            <a:ext cx="159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45"/>
          <p:cNvSpPr/>
          <p:nvPr/>
        </p:nvSpPr>
        <p:spPr>
          <a:xfrm flipH="1">
            <a:off x="1754280" y="2276640"/>
            <a:ext cx="9360" cy="576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46"/>
          <p:cNvSpPr/>
          <p:nvPr/>
        </p:nvSpPr>
        <p:spPr>
          <a:xfrm>
            <a:off x="1762200" y="3429000"/>
            <a:ext cx="1440" cy="863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47"/>
          <p:cNvSpPr/>
          <p:nvPr/>
        </p:nvSpPr>
        <p:spPr>
          <a:xfrm>
            <a:off x="1752480" y="4653000"/>
            <a:ext cx="11160" cy="720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48"/>
          <p:cNvSpPr/>
          <p:nvPr/>
        </p:nvSpPr>
        <p:spPr>
          <a:xfrm>
            <a:off x="1754280" y="5372280"/>
            <a:ext cx="159372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49"/>
          <p:cNvSpPr/>
          <p:nvPr/>
        </p:nvSpPr>
        <p:spPr>
          <a:xfrm rot="16200000">
            <a:off x="3084120" y="34909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ia Phone or Fa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50"/>
          <p:cNvSpPr/>
          <p:nvPr/>
        </p:nvSpPr>
        <p:spPr>
          <a:xfrm rot="16200000">
            <a:off x="3731760" y="32022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ia Intern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7667640" y="589104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ure 3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portion or segment of the actual or potential business mix at any given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ing this business pool into segments with similar characteristics is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s are corporate, association and SMER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s are business and plea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Typical Lodging Gu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39"/>
          <p:cNvGrpSpPr/>
          <p:nvPr/>
        </p:nvGrpSpPr>
        <p:grpSpPr>
          <a:xfrm>
            <a:off x="271440" y="2362320"/>
            <a:ext cx="8339040" cy="761760"/>
            <a:chOff x="271440" y="2362320"/>
            <a:chExt cx="8339040" cy="761760"/>
          </a:xfrm>
        </p:grpSpPr>
        <p:sp>
          <p:nvSpPr>
            <p:cNvPr id="97" name="Text Box 4"/>
            <p:cNvSpPr/>
            <p:nvPr/>
          </p:nvSpPr>
          <p:spPr>
            <a:xfrm>
              <a:off x="533520" y="243828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8" name="Group 31"/>
            <p:cNvGrpSpPr/>
            <p:nvPr/>
          </p:nvGrpSpPr>
          <p:grpSpPr>
            <a:xfrm>
              <a:off x="271440" y="2362320"/>
              <a:ext cx="2014560" cy="761760"/>
              <a:chOff x="271440" y="2362320"/>
              <a:chExt cx="2014560" cy="761760"/>
            </a:xfrm>
          </p:grpSpPr>
          <p:sp>
            <p:nvSpPr>
              <p:cNvPr id="99" name="Rectangle 7"/>
              <p:cNvSpPr/>
              <p:nvPr/>
            </p:nvSpPr>
            <p:spPr>
              <a:xfrm>
                <a:off x="271440" y="2362320"/>
                <a:ext cx="1981080" cy="76176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Text Box 8"/>
              <p:cNvSpPr/>
              <p:nvPr/>
            </p:nvSpPr>
            <p:spPr>
              <a:xfrm>
                <a:off x="304920" y="257184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8.8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1" name="Group 35"/>
            <p:cNvGrpSpPr/>
            <p:nvPr/>
          </p:nvGrpSpPr>
          <p:grpSpPr>
            <a:xfrm>
              <a:off x="2324160" y="2362320"/>
              <a:ext cx="5905440" cy="761760"/>
              <a:chOff x="2324160" y="2362320"/>
              <a:chExt cx="5905440" cy="761760"/>
            </a:xfrm>
          </p:grpSpPr>
          <p:sp>
            <p:nvSpPr>
              <p:cNvPr id="102" name="Rectangle 9"/>
              <p:cNvSpPr/>
              <p:nvPr/>
            </p:nvSpPr>
            <p:spPr>
              <a:xfrm>
                <a:off x="2324160" y="2362320"/>
                <a:ext cx="5905440" cy="76176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Text Box 13"/>
              <p:cNvSpPr/>
              <p:nvPr/>
            </p:nvSpPr>
            <p:spPr>
              <a:xfrm>
                <a:off x="2400480" y="251460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transient business travelers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04" name="Group 40"/>
          <p:cNvGrpSpPr/>
          <p:nvPr/>
        </p:nvGrpSpPr>
        <p:grpSpPr>
          <a:xfrm>
            <a:off x="271440" y="3200400"/>
            <a:ext cx="8339040" cy="762120"/>
            <a:chOff x="271440" y="3200400"/>
            <a:chExt cx="8339040" cy="762120"/>
          </a:xfrm>
        </p:grpSpPr>
        <p:sp>
          <p:nvSpPr>
            <p:cNvPr id="105" name="Text Box 14"/>
            <p:cNvSpPr/>
            <p:nvPr/>
          </p:nvSpPr>
          <p:spPr>
            <a:xfrm>
              <a:off x="533520" y="327672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6" name="Group 32"/>
            <p:cNvGrpSpPr/>
            <p:nvPr/>
          </p:nvGrpSpPr>
          <p:grpSpPr>
            <a:xfrm>
              <a:off x="271440" y="3200400"/>
              <a:ext cx="2014560" cy="762120"/>
              <a:chOff x="271440" y="3200400"/>
              <a:chExt cx="2014560" cy="762120"/>
            </a:xfrm>
          </p:grpSpPr>
          <p:sp>
            <p:nvSpPr>
              <p:cNvPr id="107" name="Rectangle 15"/>
              <p:cNvSpPr/>
              <p:nvPr/>
            </p:nvSpPr>
            <p:spPr>
              <a:xfrm>
                <a:off x="271440" y="320040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Text Box 16"/>
              <p:cNvSpPr/>
              <p:nvPr/>
            </p:nvSpPr>
            <p:spPr>
              <a:xfrm>
                <a:off x="304920" y="340992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5.3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36"/>
            <p:cNvGrpSpPr/>
            <p:nvPr/>
          </p:nvGrpSpPr>
          <p:grpSpPr>
            <a:xfrm>
              <a:off x="2324160" y="3200400"/>
              <a:ext cx="5905440" cy="762120"/>
              <a:chOff x="2324160" y="3200400"/>
              <a:chExt cx="5905440" cy="762120"/>
            </a:xfrm>
          </p:grpSpPr>
          <p:sp>
            <p:nvSpPr>
              <p:cNvPr id="110" name="Rectangle 17"/>
              <p:cNvSpPr/>
              <p:nvPr/>
            </p:nvSpPr>
            <p:spPr>
              <a:xfrm>
                <a:off x="2324160" y="320040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Text Box 18"/>
              <p:cNvSpPr/>
              <p:nvPr/>
            </p:nvSpPr>
            <p:spPr>
              <a:xfrm>
                <a:off x="2400480" y="335268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attending a conference/group meeting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12" name="Group 41"/>
          <p:cNvGrpSpPr/>
          <p:nvPr/>
        </p:nvGrpSpPr>
        <p:grpSpPr>
          <a:xfrm>
            <a:off x="271440" y="4038480"/>
            <a:ext cx="8339040" cy="762120"/>
            <a:chOff x="271440" y="4038480"/>
            <a:chExt cx="8339040" cy="762120"/>
          </a:xfrm>
        </p:grpSpPr>
        <p:sp>
          <p:nvSpPr>
            <p:cNvPr id="113" name="Text Box 19"/>
            <p:cNvSpPr/>
            <p:nvPr/>
          </p:nvSpPr>
          <p:spPr>
            <a:xfrm>
              <a:off x="533520" y="411480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4" name="Group 33"/>
            <p:cNvGrpSpPr/>
            <p:nvPr/>
          </p:nvGrpSpPr>
          <p:grpSpPr>
            <a:xfrm>
              <a:off x="271440" y="4038480"/>
              <a:ext cx="2014560" cy="762120"/>
              <a:chOff x="271440" y="4038480"/>
              <a:chExt cx="2014560" cy="762120"/>
            </a:xfrm>
          </p:grpSpPr>
          <p:sp>
            <p:nvSpPr>
              <p:cNvPr id="115" name="Rectangle 20"/>
              <p:cNvSpPr/>
              <p:nvPr/>
            </p:nvSpPr>
            <p:spPr>
              <a:xfrm>
                <a:off x="271440" y="403848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Text Box 21"/>
              <p:cNvSpPr/>
              <p:nvPr/>
            </p:nvSpPr>
            <p:spPr>
              <a:xfrm>
                <a:off x="304920" y="424800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4.6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Group 37"/>
            <p:cNvGrpSpPr/>
            <p:nvPr/>
          </p:nvGrpSpPr>
          <p:grpSpPr>
            <a:xfrm>
              <a:off x="2324160" y="4038480"/>
              <a:ext cx="5905440" cy="762120"/>
              <a:chOff x="2324160" y="4038480"/>
              <a:chExt cx="5905440" cy="762120"/>
            </a:xfrm>
          </p:grpSpPr>
          <p:sp>
            <p:nvSpPr>
              <p:cNvPr id="118" name="Rectangle 22"/>
              <p:cNvSpPr/>
              <p:nvPr/>
            </p:nvSpPr>
            <p:spPr>
              <a:xfrm>
                <a:off x="2324160" y="403848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Text Box 23"/>
              <p:cNvSpPr/>
              <p:nvPr/>
            </p:nvSpPr>
            <p:spPr>
              <a:xfrm>
                <a:off x="2400480" y="419112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on vacation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" name="Group 42"/>
          <p:cNvGrpSpPr/>
          <p:nvPr/>
        </p:nvGrpSpPr>
        <p:grpSpPr>
          <a:xfrm>
            <a:off x="271440" y="4896000"/>
            <a:ext cx="8339040" cy="819000"/>
            <a:chOff x="271440" y="4896000"/>
            <a:chExt cx="8339040" cy="819000"/>
          </a:xfrm>
        </p:grpSpPr>
        <p:sp>
          <p:nvSpPr>
            <p:cNvPr id="121" name="Text Box 24"/>
            <p:cNvSpPr/>
            <p:nvPr/>
          </p:nvSpPr>
          <p:spPr>
            <a:xfrm>
              <a:off x="533520" y="502920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2" name="Group 34"/>
            <p:cNvGrpSpPr/>
            <p:nvPr/>
          </p:nvGrpSpPr>
          <p:grpSpPr>
            <a:xfrm>
              <a:off x="271440" y="4952880"/>
              <a:ext cx="2014560" cy="762120"/>
              <a:chOff x="271440" y="4952880"/>
              <a:chExt cx="2014560" cy="762120"/>
            </a:xfrm>
          </p:grpSpPr>
          <p:sp>
            <p:nvSpPr>
              <p:cNvPr id="123" name="Rectangle 25"/>
              <p:cNvSpPr/>
              <p:nvPr/>
            </p:nvSpPr>
            <p:spPr>
              <a:xfrm>
                <a:off x="271440" y="495288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Text Box 26"/>
              <p:cNvSpPr/>
              <p:nvPr/>
            </p:nvSpPr>
            <p:spPr>
              <a:xfrm>
                <a:off x="304920" y="516240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1.8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5" name="Group 38"/>
            <p:cNvGrpSpPr/>
            <p:nvPr/>
          </p:nvGrpSpPr>
          <p:grpSpPr>
            <a:xfrm>
              <a:off x="2324160" y="4896000"/>
              <a:ext cx="5905440" cy="819000"/>
              <a:chOff x="2324160" y="4896000"/>
              <a:chExt cx="5905440" cy="819000"/>
            </a:xfrm>
          </p:grpSpPr>
          <p:sp>
            <p:nvSpPr>
              <p:cNvPr id="126" name="Rectangle 27"/>
              <p:cNvSpPr/>
              <p:nvPr/>
            </p:nvSpPr>
            <p:spPr>
              <a:xfrm>
                <a:off x="2324160" y="495288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Text Box 28"/>
              <p:cNvSpPr/>
              <p:nvPr/>
            </p:nvSpPr>
            <p:spPr>
              <a:xfrm>
                <a:off x="2400480" y="4896000"/>
                <a:ext cx="563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traveling for other reasons (for example, personal, family, or special event)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Market Seg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rpor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 consists of for-profit companies and frequently pays higher rates than other segments to ensure quality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oci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segment consists of groups of individuals or companies that share common purposes or goals, and is more cost-conscious than the corporate seg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Market Segments (Cont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MERF segment consists of groups that have characteristics that set them apart from the previous two categories, and has five primary compon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00000" y="3457440"/>
          <a:ext cx="7272360" cy="2347920"/>
        </p:xfrm>
        <a:graphic>
          <a:graphicData uri="http://schemas.openxmlformats.org/drawingml/2006/table">
            <a:tbl>
              <a:tblPr/>
              <a:tblGrid>
                <a:gridCol w="3000600"/>
                <a:gridCol w="42717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mary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ddings, Proms, Fund Raisers, e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ions, Award Ceremo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c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inuing Education, Classes,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igi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vals, Enlightenment Gather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ter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ternities, Soror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Seg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sin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uest is one who stays at a hotel because of its location in relation to another organ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usiness guest makes his/her hotel choice based on many factors, but one of the most common is brand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hotels offer various incentives for guest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Segment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easu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uest stays at  hotel because of its proximity to an attraction and/or because of a signature attraction at the hotel itsel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gnature attraction is an event, activity or facility identified with a specific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Room Dema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llowing figure illustrates how both group and transient market segments come together to make up guest room de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4" descr="j0310022[1]"/>
          <p:cNvPicPr/>
          <p:nvPr/>
        </p:nvPicPr>
        <p:blipFill>
          <a:blip r:embed="rId1"/>
          <a:stretch/>
        </p:blipFill>
        <p:spPr>
          <a:xfrm>
            <a:off x="3203640" y="2997360"/>
            <a:ext cx="2720880" cy="30668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4067280" y="3689280"/>
            <a:ext cx="1008000" cy="1110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t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ues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m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826920" y="3141720"/>
            <a:ext cx="136872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826920" y="4149720"/>
            <a:ext cx="136872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826920" y="5302080"/>
            <a:ext cx="1368720" cy="64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732720" y="4797360"/>
            <a:ext cx="136836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6732720" y="3430440"/>
            <a:ext cx="1368360" cy="64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11"/>
          <p:cNvSpPr/>
          <p:nvPr/>
        </p:nvSpPr>
        <p:spPr>
          <a:xfrm>
            <a:off x="2124000" y="364500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2195640" y="44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3"/>
          <p:cNvSpPr/>
          <p:nvPr/>
        </p:nvSpPr>
        <p:spPr>
          <a:xfrm flipV="1">
            <a:off x="2052720" y="4581000"/>
            <a:ext cx="5745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Line 14"/>
          <p:cNvSpPr/>
          <p:nvPr/>
        </p:nvSpPr>
        <p:spPr>
          <a:xfrm flipH="1">
            <a:off x="6444720" y="393372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15"/>
          <p:cNvSpPr/>
          <p:nvPr/>
        </p:nvSpPr>
        <p:spPr>
          <a:xfrm flipH="1" flipV="1">
            <a:off x="6444720" y="450972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334800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17"/>
          <p:cNvSpPr/>
          <p:nvPr/>
        </p:nvSpPr>
        <p:spPr>
          <a:xfrm flipH="1">
            <a:off x="5365440" y="4438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5653080" y="429408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6950160" y="49417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leas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6877080" y="357336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2700360" y="4292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1116000" y="54594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MER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900000" y="4365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971640" y="33577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7667640" y="5950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ure 3-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32"/>
          <p:cNvGrpSpPr/>
          <p:nvPr/>
        </p:nvGrpSpPr>
        <p:grpSpPr>
          <a:xfrm>
            <a:off x="380880" y="1181160"/>
            <a:ext cx="8229600" cy="1085760"/>
            <a:chOff x="380880" y="1181160"/>
            <a:chExt cx="8229600" cy="1085760"/>
          </a:xfrm>
        </p:grpSpPr>
        <p:sp>
          <p:nvSpPr>
            <p:cNvPr id="129" name="Rectangle 7"/>
            <p:cNvSpPr/>
            <p:nvPr/>
          </p:nvSpPr>
          <p:spPr>
            <a:xfrm>
              <a:off x="380880" y="1181160"/>
              <a:ext cx="8229600" cy="1085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0" name="Picture 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06520" y="127332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9"/>
            <p:cNvSpPr/>
            <p:nvPr/>
          </p:nvSpPr>
          <p:spPr>
            <a:xfrm>
              <a:off x="1058760" y="125424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mphasis on safety, cleanliness &amp; servic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uests also consider “intangible” aspects of the purcha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Lodging Industry Character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" name="Group 33"/>
          <p:cNvGrpSpPr/>
          <p:nvPr/>
        </p:nvGrpSpPr>
        <p:grpSpPr>
          <a:xfrm>
            <a:off x="380880" y="2308320"/>
            <a:ext cx="8229600" cy="815760"/>
            <a:chOff x="380880" y="2308320"/>
            <a:chExt cx="8229600" cy="815760"/>
          </a:xfrm>
        </p:grpSpPr>
        <p:sp>
          <p:nvSpPr>
            <p:cNvPr id="134" name="Rectangle 18"/>
            <p:cNvSpPr/>
            <p:nvPr/>
          </p:nvSpPr>
          <p:spPr>
            <a:xfrm>
              <a:off x="380880" y="2308320"/>
              <a:ext cx="8229600" cy="815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5" name="Picture 1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06520" y="2400120"/>
              <a:ext cx="53964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0"/>
            <p:cNvSpPr/>
            <p:nvPr/>
          </p:nvSpPr>
          <p:spPr>
            <a:xfrm>
              <a:off x="1058760" y="2381040"/>
              <a:ext cx="73994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separability of manufacture &amp; sal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 room exists &amp; is sold at the same sit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" name="Group 34"/>
          <p:cNvGrpSpPr/>
          <p:nvPr/>
        </p:nvGrpSpPr>
        <p:grpSpPr>
          <a:xfrm>
            <a:off x="380880" y="3200400"/>
            <a:ext cx="8229600" cy="1044720"/>
            <a:chOff x="380880" y="3200400"/>
            <a:chExt cx="8229600" cy="1044720"/>
          </a:xfrm>
        </p:grpSpPr>
        <p:sp>
          <p:nvSpPr>
            <p:cNvPr id="138" name="Rectangle 21"/>
            <p:cNvSpPr/>
            <p:nvPr/>
          </p:nvSpPr>
          <p:spPr>
            <a:xfrm>
              <a:off x="380880" y="3200400"/>
              <a:ext cx="8229600" cy="1044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9" name="Picture 2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06520" y="325440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23"/>
            <p:cNvSpPr/>
            <p:nvPr/>
          </p:nvSpPr>
          <p:spPr>
            <a:xfrm>
              <a:off x="1058760" y="325440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erishabilit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If a room is not rented on a specific date, the revenue i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ost forev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380880" y="4308480"/>
            <a:ext cx="8229600" cy="720720"/>
            <a:chOff x="380880" y="4308480"/>
            <a:chExt cx="8229600" cy="720720"/>
          </a:xfrm>
        </p:grpSpPr>
        <p:sp>
          <p:nvSpPr>
            <p:cNvPr id="142" name="Rectangle 24"/>
            <p:cNvSpPr/>
            <p:nvPr/>
          </p:nvSpPr>
          <p:spPr>
            <a:xfrm>
              <a:off x="380880" y="4308480"/>
              <a:ext cx="8229600" cy="72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3" name="Picture 25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06520" y="440064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6"/>
            <p:cNvSpPr/>
            <p:nvPr/>
          </p:nvSpPr>
          <p:spPr>
            <a:xfrm>
              <a:off x="1058760" y="4381560"/>
              <a:ext cx="7399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petitivene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Some operating procedures are routin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" name="Group 36"/>
          <p:cNvGrpSpPr/>
          <p:nvPr/>
        </p:nvGrpSpPr>
        <p:grpSpPr>
          <a:xfrm>
            <a:off x="380880" y="5032440"/>
            <a:ext cx="8229600" cy="1063440"/>
            <a:chOff x="380880" y="5032440"/>
            <a:chExt cx="8229600" cy="1063440"/>
          </a:xfrm>
        </p:grpSpPr>
        <p:sp>
          <p:nvSpPr>
            <p:cNvPr id="146" name="Rectangle 27"/>
            <p:cNvSpPr/>
            <p:nvPr/>
          </p:nvSpPr>
          <p:spPr>
            <a:xfrm>
              <a:off x="380880" y="5032440"/>
              <a:ext cx="8229600" cy="1063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7" name="Picture 28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06520" y="51246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29"/>
            <p:cNvSpPr/>
            <p:nvPr/>
          </p:nvSpPr>
          <p:spPr>
            <a:xfrm>
              <a:off x="1058760" y="510552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abor Intensiv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Much of a hotel’s daily work involves employe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viding servic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7"/>
          <p:cNvGrpSpPr/>
          <p:nvPr/>
        </p:nvGrpSpPr>
        <p:grpSpPr>
          <a:xfrm>
            <a:off x="457200" y="4876920"/>
            <a:ext cx="8153280" cy="1199880"/>
            <a:chOff x="457200" y="4876920"/>
            <a:chExt cx="8153280" cy="1199880"/>
          </a:xfrm>
        </p:grpSpPr>
        <p:sp>
          <p:nvSpPr>
            <p:cNvPr id="150" name="Rectangle 28"/>
            <p:cNvSpPr/>
            <p:nvPr/>
          </p:nvSpPr>
          <p:spPr>
            <a:xfrm>
              <a:off x="457200" y="4876920"/>
              <a:ext cx="8153280" cy="1199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1" name="Picture 30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514332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31"/>
            <p:cNvSpPr/>
            <p:nvPr/>
          </p:nvSpPr>
          <p:spPr>
            <a:xfrm>
              <a:off x="1009800" y="5060880"/>
              <a:ext cx="74484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arious amenities (e.g., business centers) increase costs for hotel owners yet sometimes appeal to only a small segment of the hotel’s market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" name="Group 36"/>
          <p:cNvGrpSpPr/>
          <p:nvPr/>
        </p:nvGrpSpPr>
        <p:grpSpPr>
          <a:xfrm>
            <a:off x="457200" y="3657600"/>
            <a:ext cx="8153280" cy="914400"/>
            <a:chOff x="457200" y="3657600"/>
            <a:chExt cx="8153280" cy="914400"/>
          </a:xfrm>
        </p:grpSpPr>
        <p:sp>
          <p:nvSpPr>
            <p:cNvPr id="154" name="Rectangle 24"/>
            <p:cNvSpPr/>
            <p:nvPr/>
          </p:nvSpPr>
          <p:spPr>
            <a:xfrm>
              <a:off x="457200" y="3657600"/>
              <a:ext cx="8153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5" name="Picture 26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39243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7"/>
            <p:cNvSpPr/>
            <p:nvPr/>
          </p:nvSpPr>
          <p:spPr>
            <a:xfrm>
              <a:off x="1009800" y="3898800"/>
              <a:ext cx="7448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sults in a more competitive selling environment for hoteliers (e.g., online room booking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Group 35"/>
          <p:cNvGrpSpPr/>
          <p:nvPr/>
        </p:nvGrpSpPr>
        <p:grpSpPr>
          <a:xfrm>
            <a:off x="457200" y="2587680"/>
            <a:ext cx="8153280" cy="914400"/>
            <a:chOff x="457200" y="2587680"/>
            <a:chExt cx="8153280" cy="914400"/>
          </a:xfrm>
        </p:grpSpPr>
        <p:sp>
          <p:nvSpPr>
            <p:cNvPr id="158" name="Rectangle 20"/>
            <p:cNvSpPr/>
            <p:nvPr/>
          </p:nvSpPr>
          <p:spPr>
            <a:xfrm>
              <a:off x="457200" y="2587680"/>
              <a:ext cx="8153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9" name="Picture 2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28544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23"/>
            <p:cNvSpPr/>
            <p:nvPr/>
          </p:nvSpPr>
          <p:spPr>
            <a:xfrm>
              <a:off x="1009800" y="2829240"/>
              <a:ext cx="7448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he more  the number of brands increase, the harder consumers find it to differentiate between them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" name="Group 34"/>
          <p:cNvGrpSpPr/>
          <p:nvPr/>
        </p:nvGrpSpPr>
        <p:grpSpPr>
          <a:xfrm>
            <a:off x="457200" y="1428840"/>
            <a:ext cx="8153280" cy="895320"/>
            <a:chOff x="457200" y="1428840"/>
            <a:chExt cx="8153280" cy="895320"/>
          </a:xfrm>
        </p:grpSpPr>
        <p:sp>
          <p:nvSpPr>
            <p:cNvPr id="162" name="Rectangle 4"/>
            <p:cNvSpPr/>
            <p:nvPr/>
          </p:nvSpPr>
          <p:spPr>
            <a:xfrm>
              <a:off x="457200" y="1428840"/>
              <a:ext cx="8153280" cy="895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3" name="Picture 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177156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7"/>
            <p:cNvSpPr/>
            <p:nvPr/>
          </p:nvSpPr>
          <p:spPr>
            <a:xfrm>
              <a:off x="1009800" y="1670040"/>
              <a:ext cx="74484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fforts to focus on a highly defined, smaller group of travelers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Text Box 5"/>
          <p:cNvSpPr/>
          <p:nvPr/>
        </p:nvSpPr>
        <p:spPr>
          <a:xfrm>
            <a:off x="457200" y="1200240"/>
            <a:ext cx="48769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rket segmentation is incre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Current Issues confronting Hoteliers: Marketing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457200" y="2362320"/>
            <a:ext cx="25909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nds overl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457200" y="3505320"/>
            <a:ext cx="53341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d sophistication of consum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457200" y="4648320"/>
            <a:ext cx="426708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d number of amen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ent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om Sales Differenti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Reservation Aven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up Market Seg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Market Seg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om Sales Differentiatio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catering contribution plays an important role in food and beverage revenue and also impacts the sleeping room portion of the hotel success triangle (see tex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pancy is the measurement of room sales verses available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ooms that are sold fall into two categories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bination of these two groups makes up the hotel’s occupa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 roo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iginate from reservations that are made to bring more than one guest to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 rooms involve a series of bookings that correspond to specific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otels consider bookings of 10 or more rooms per night a group boo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urpose of the group room sales effort is to seek group bookings and bring them to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Roo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 sales is counted upon to fill a certain number of hotel rooms per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base is the measurement of how many group rooms are “on the books” on a given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groups can be booked far in advance, they are sought af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important to note that group rooms are often offered at lower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ent rooms are rooms that originate from individual reserv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ent rooms are non-group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differ from group rooms as there is no way to predict when these guests will arr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ng the level of individual reservations on any given night is diffic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ing at historical data helps in determining the most likely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1T09:14:54Z</dcterms:modified>
  <cp:revision>98</cp:revision>
  <dc:subject/>
  <dc:title>FRONT OFFICE OPERATIONS MANAGEMENT</dc:title>
</cp:coreProperties>
</file>